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B38D-3A82-48E1-82E4-EB5DB364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AE11-456D-47C9-BDB7-06CA9B97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41CD-AB3E-40AE-B368-B3A2334F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F50F-C4FB-495E-8876-CB751AC7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82E1-23F0-4B0D-88B9-CFAF3695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E9B-C0C6-4504-B08E-DA070BCC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7F28-0325-4CE9-9451-4D71DCB9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FBB0-60F4-4C15-BC78-FF4D00AE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5D6F-CFE0-46BA-B924-18AE7073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729A-E6FB-4C79-863E-69EF03FD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D754-59E3-4621-8046-0EF9A2D8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45B9-B4C0-4BC5-9EDF-3E9F4A75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D6BE-B435-40B1-A8DB-89A621C3A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5909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ude 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36576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3429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259092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% Ci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 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33526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65760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3809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523880"/>
            <a:ext cx="685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% Na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22860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1523880"/>
            <a:ext cx="685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zy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22860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3352680"/>
            <a:ext cx="1066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0" y="4952880"/>
            <a:ext cx="8380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gumm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543800" y="312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16280" y="2895480"/>
            <a:ext cx="45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3733920"/>
            <a:ext cx="14760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3733920"/>
            <a:ext cx="14760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3733920"/>
            <a:ext cx="14760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3124080"/>
            <a:ext cx="13716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a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37339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3733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3657600"/>
            <a:ext cx="14760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37339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3657600"/>
            <a:ext cx="14760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3429000"/>
            <a:ext cx="685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37339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588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59960" y="43434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38880" y="4572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65760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6600" y="4572000"/>
            <a:ext cx="52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o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4648320"/>
            <a:ext cx="14760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10280" y="434340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4038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4114800"/>
            <a:ext cx="14760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3352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440" y="3124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334120" y="4572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124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162920" y="5790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83840" y="60199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55240" y="6248520"/>
            <a:ext cx="57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i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6477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29400" y="6248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552720" y="4648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31560" y="4419720"/>
            <a:ext cx="2872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28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5720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5680" y="2057400"/>
            <a:ext cx="2872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5627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41200" y="2895480"/>
            <a:ext cx="2872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905120"/>
            <a:ext cx="7621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gumm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895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7432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971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1905120"/>
            <a:ext cx="7617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32004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30481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27432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1905120"/>
            <a:ext cx="7621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743200"/>
            <a:ext cx="228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124080" y="259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1905120"/>
            <a:ext cx="761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3124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3200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31240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657600" y="1752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54120" y="1371600"/>
            <a:ext cx="58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a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276360" y="2819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32004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26668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05320" y="25909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297180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52320" y="350532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 Activated C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vy Me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67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6360" y="1295280"/>
            <a:ext cx="522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ank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2895480"/>
            <a:ext cx="7621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57800" y="2742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54680" y="2438280"/>
            <a:ext cx="522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ank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38680" y="3124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486040" y="3200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3048120"/>
            <a:ext cx="304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3124080"/>
            <a:ext cx="7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324480" y="289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2362320"/>
            <a:ext cx="2286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324480" y="106632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10666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15200" y="30492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mo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res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934320" y="990720"/>
            <a:ext cx="76176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ss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51600" y="9907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ar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695720" y="1143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96080" y="1752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50880" y="1600200"/>
            <a:ext cx="7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F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-Carote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21337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8660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209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400440" y="2514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27432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67480" y="762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2590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ens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43800" y="2743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2438280"/>
            <a:ext cx="7621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8458200" y="23619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155080" y="2057400"/>
            <a:ext cx="522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ank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124080"/>
            <a:ext cx="14760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1905120"/>
            <a:ext cx="6098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% Ci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27432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819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30481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3200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3124080"/>
            <a:ext cx="14760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440" y="33526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4440" y="3581280"/>
            <a:ext cx="57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i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522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3809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3581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90720" y="2971800"/>
            <a:ext cx="761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df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114800"/>
            <a:ext cx="761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3400" y="2666880"/>
            <a:ext cx="2872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289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4191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2895480"/>
            <a:ext cx="1143000" cy="19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ester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33526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4419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40384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38098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44956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52480" y="34290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335268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33720" y="441972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266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66880" y="2438280"/>
            <a:ext cx="6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7800" y="2133720"/>
            <a:ext cx="102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dium Methox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2362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19920" y="38098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62320" y="2057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43560" y="182880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 A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412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8660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4120" y="4572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4852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16800" y="4952880"/>
            <a:ext cx="102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 A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dium Methox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15000" y="40384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772400" y="3581280"/>
            <a:ext cx="762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B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18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8001000" y="3276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079480" y="3048120"/>
            <a:ext cx="2872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2514600"/>
            <a:ext cx="914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t 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580920" y="2590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59760" y="2362320"/>
            <a:ext cx="2872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373392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81680" y="373392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40384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67480" y="40384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1008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505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485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21:48:32Z</dcterms:created>
  <dc:creator>Travis</dc:creator>
  <dc:description/>
  <dc:language>en-US</dc:language>
  <cp:lastModifiedBy>Travis</cp:lastModifiedBy>
  <dcterms:modified xsi:type="dcterms:W3CDTF">2010-04-05T00:00:24Z</dcterms:modified>
  <cp:revision>14</cp:revision>
  <dc:subject/>
  <dc:title>Slide 1</dc:title>
</cp:coreProperties>
</file>